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0C2-04EC-4FCC-AB44-AE74B865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FD1-53F2-4823-B653-F4ACE388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7E3-D30F-4C16-8F03-D36C86D4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9D6-C47B-4111-B823-7DC99F20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AC7-6EAA-4985-936E-66FF0F60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CAD-7189-45D6-A14D-A5FBCFC4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582-AEF1-4CB4-8437-B50ECD04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802-6538-45B8-A84C-9F279B9D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FBE-D3E9-4652-B290-541E7432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E7A-5A4F-4AE2-9011-5771AE52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A9F-EF48-44BA-BCA3-9B163480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855-06D4-49AA-ABBC-65813996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1331-E206-42DE-AD29-68CD5B964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ing Good Listening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3429000" y="3581280"/>
          <a:ext cx="23623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581280"/>
                    <a:ext cx="23623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876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k about what the class is going to be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were the main points covered in the last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ew what your assignment was for the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5029200" y="2209680"/>
          <a:ext cx="3809880" cy="35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209680"/>
                    <a:ext cx="380988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ring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5740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0515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entrate on what is going on in class - do not daydr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can not listen if you are talking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e what you have already learned to what is being taught. Think about your readings and home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7"/>
          <p:cNvGraphicFramePr/>
          <p:nvPr/>
        </p:nvGraphicFramePr>
        <p:xfrm>
          <a:off x="228600" y="2362320"/>
          <a:ext cx="3048120" cy="26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30481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ring Clas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k ques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entrat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ke notes on the main points whether you are told to or no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4648320" y="2322360"/>
          <a:ext cx="3809880" cy="34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22360"/>
                    <a:ext cx="38098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304920" y="2971800"/>
          <a:ext cx="380988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380988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7636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ew your notes and think about what was covered in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people like to rewrite their no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ne and highlight important ideas and vocabu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Listening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1097280" indent="-21924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od listening means you are paying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y to hear what is said, not what you want to h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k "around" the topic and "between the lin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e it to what you already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Listening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main poi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likely to be on the te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teacher going to say nex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sten carefully to what the teacher says about an assignment and write it down in your assignment notebook right a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Listening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1062720" indent="-2124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sten for essential phrases from the teac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not confuse listening with hearing. You can hear something but not be listening. To listen you must be think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stening is an active, not passive activit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22:41:32Z</dcterms:created>
  <dc:creator>Samantha Murrell</dc:creator>
  <dc:description/>
  <dc:language>en-US</dc:language>
  <cp:lastModifiedBy>shmurray</cp:lastModifiedBy>
  <dcterms:modified xsi:type="dcterms:W3CDTF">2011-06-13T20:03:35Z</dcterms:modified>
  <cp:revision>1</cp:revision>
  <dc:subject/>
  <dc:title>Developing Good Listening Skills</dc:title>
</cp:coreProperties>
</file>